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5F6-88BA-4DF3-81B6-5478E8C1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EAA-03D8-4933-A3A0-ADCF37DA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1F870-C931-4580-BB16-48141C87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15C8E-0961-4FA4-8DBE-648EBF3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FD5A-5B26-424D-BA0B-B7A3AB71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97ED4-E2D8-4AAE-8D5A-C188D08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004F4-774B-4114-9181-C11E94A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33A5F-06D1-4398-918F-0613DBC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FF225-1E30-4BA0-9540-063FA2BE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7E6E-152D-419A-8806-90EBD1DD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01138-131C-4CEA-BD0D-4705AE63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03BCE-BD40-4BA3-A815-8B76F4F6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0C8-7F9A-4C6C-A78E-9C65F3C9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94E2D-9512-4C86-9110-C2A8C7D7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F2ADB-DEB3-4021-9C09-3D17A9FB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B0395-A10A-4871-A50B-17EC7367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FAA9C-0E53-4496-96A4-693648E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8BEA2-E737-43BB-A9B2-4FD18652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C9996-0678-4CE5-966F-FD26F8C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79D0F-B804-410B-B356-B7A48EF6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79B10-639A-4F80-8E52-FEEAE1D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662BD-94F8-4761-A095-08593975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20C70-F9FA-462E-9C2F-C58AC535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088-F67B-4015-9611-68D8249F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4E76A-47C9-44D8-8879-2FC42C3C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9228D-B054-4860-899A-FC144D6F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C94FF-EA6F-4378-8E09-10C74EE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7688A-29F7-43AD-A980-02223FF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D3D59-4E2F-4F6F-A3BD-75C2471B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34AFD-0065-4B0D-8BD2-DB4223D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50434-6871-4662-8113-4E95A010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3E27F-5F75-4EE3-B23F-17C3DB8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CEAA8-5AF9-4244-B6B9-402F1AE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A8DF-E09B-43CD-9C8C-B360E24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0784-A68A-493C-B9F9-804EF07E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BBC99-A0F1-4C2B-A8C4-3C700137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BFE18-7572-4CF1-91B2-FACDCBD0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2B4B-46E0-46F8-B401-ECBE9C96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9AB53-9A84-4616-B027-1EA63AA4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C1A87-0ED4-42B0-A4AB-6D49577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4CA6E-FCF2-4119-8831-E30EF36B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CD3D1-18A8-44C4-BAA7-35D01F3F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45E3A-797C-40A6-8DAD-0123A42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75E28-71BC-4BDF-A2B8-37C1F963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6186C-B788-4C6E-9642-1F8D760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0F7-3B86-4EAD-88E3-150A7E0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798CD-3A64-437E-9BBA-88B0010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D6A8C-FB0C-4DFE-9769-17EEBEB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19978-806A-4903-803F-F5883C36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9D5F2-63EA-4E56-B413-3FFF8EB7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88E84-1705-4B9C-AE32-0E66359F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672AB-43AC-42E1-8358-FC908BA7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50889-973D-4E6D-A966-3F687F9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A0803-17EE-4620-AC1D-4D3D91FF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3BE8C-1720-4B6C-8A8E-9D46A26B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5734E-9F5B-4BF1-876C-37CB7F4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CE3F-EE3B-498D-9654-FE66751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1E26A-F20C-4F33-8A5A-36266460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7A24A-37A2-42B6-8827-F8731FD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5118D-0DDA-4445-AD58-EC80A5E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5EBC6-6378-48AD-8E43-AE84591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96813-F8D8-4112-B880-3310E9B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B85BE-5DE4-4774-B5DC-C217682E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65E18-2233-4C1D-9F5F-462F120D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F38FD-2A0B-43EB-908B-BF0BE753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73194-83F5-44FA-B298-E65FF8A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ABC0F-7D4E-4D85-BD27-205A00C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540E-A548-46FF-B58A-4DA5D05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6C712-909A-41B2-B76E-BFCBAEE7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22BE4-C554-450D-BF99-F0ECA9AC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CA665-6933-4F35-8BE1-0077097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CF1C9-278C-49F9-B04F-7CC01F5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E965E-16EE-4EA0-A336-5205EB02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D89D8-BF1D-44C9-B165-9D6E64B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C3F87-5882-43AF-BFAB-88BF6D4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5F4A1-51B2-450C-B627-2C7E83E1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B8CE9-A04E-4703-A5D9-CAA87B57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35235-CE84-44F5-BFA4-C964D156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43F1-0A12-4C0A-B836-A76651B6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B4CB9-16BB-40A8-B314-B433C93B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A8F78-3DE1-44D6-B770-69E92486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EDEF3-D4E9-4A0B-8926-3713515E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12F89-2530-4B86-949B-3C73AEA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EE126-82CB-445F-833F-8511A6A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24AB6-965C-4C60-B6F1-866863A8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B08AA-B7D4-4832-A8BF-D5F4DC1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28614-4A65-46C0-8BAE-D22E4FC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889AE-5F12-40A3-A51D-BAE135E2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8AE97-AC44-4B77-BE6B-8483697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B5DD-0951-4CA2-8203-D94C0BA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3BBBC-1A23-4A01-A5A0-ACE8823F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CECB-6FC2-4671-A987-D21A335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693-E68E-45A9-BBBA-E2452BE4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D06F-EC88-4599-8728-10FEE85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A366-4DDC-4736-A44E-B6F03F7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B0DB-E316-4200-A894-8BFC2CE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073A-AB4C-487D-83FC-123BCDEA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6E5-E9BC-483D-B7AA-917EACD2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FDA8-70F2-4C00-86DD-B501EFB7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4869-AC9B-47BE-93D0-E648091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631C-D5EF-4399-8BD2-2E853E3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6EDE-21F1-4DB1-90BA-A2A354A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7504-1AB2-43B3-A284-1129927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979-D917-40A5-927C-4F63C8ED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9ED3-0DB8-42A6-804E-8DF479EB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978D-03C8-49E7-A0EE-36DA9C9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3D25-A300-4678-84B5-671399F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10C8-C8E0-4EB9-BF1A-6C7A7C9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FE5E-0745-4750-8D17-3237264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5671-F18D-4C7A-A578-3AB69818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799E-3792-424F-B316-54B427B7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53E6-714F-4DAA-99EA-108EDED2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FE91-DC13-4A87-9B8F-56CBD273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30F8-C7B9-4E49-93E0-DA530723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4FC-368B-4A0F-A53C-DD93E764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2674-311B-4CC3-9D12-7498CB6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D0F0-FC85-40FB-958D-FE76E7FE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1109-2AFD-42A2-B419-862E3AD3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10BB-104B-4853-BAB7-9706790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ECC0-803C-47F6-B256-C8E776C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E10B-2FC2-4512-9402-74F609B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AE4C-201E-447F-BFF5-DC02609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AE7B-D6D0-4395-B2CB-7B0D5D24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CE4C-374E-42CC-B7CF-5705AD1B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02FD-59BF-421E-88CE-4DB1FF8A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AEC-1A25-481B-B2C7-C94B445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D0D98-ADF4-48C1-96E5-9A4B0B0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D004-055F-4F6D-A314-2AB86AE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6323-5A31-478A-A96E-37E99625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092F-407F-4754-9DDA-0867811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C887-8D1E-45CB-8036-126AC32F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7566-DC5A-465F-A093-17B0D00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A5A4-8BEA-4B94-8661-6FF958B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0A36-F1DB-42C0-A821-17901EA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03A4-5B03-496A-85CD-5AE90C0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4BD2-900F-4ED3-A449-74AC29D4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739-9745-493A-84D9-0BC427DB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2BE3-2B96-4048-B2D3-3C05E4F2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4257-630B-46C7-98BF-4D6F00BC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3B3F-2AF7-40D4-9179-3AD7B98A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1469-A305-4E94-A84B-855EEDD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C38F-550F-4317-A2D0-5A23D0A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C080-2F92-4DC2-BB7B-62128F9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619B-2EE0-442C-A9DD-F5FA7CB6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3915-6287-422E-AD0D-4EAF80C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66E8-5F03-4964-A3CD-0B24E941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2475-C453-4CF2-9DB7-89446AC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D36-EF57-4D9D-82AC-7CE7780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9000B-E692-47BD-A54B-27CFE796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56A5-7CCF-4B9B-BA8F-870FEFDA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8CB8-C25B-4D22-B172-95C396D6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30D3-F8E0-45B2-AB90-CC4CCD3E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ED7C-0818-404F-98FE-3BE5F6C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63CB-C857-4AE8-94E1-0A38560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FF81-90BA-4E89-AD63-96801AF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7580C-0A78-4B3F-8A1F-3395796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63D0A-F3EE-4173-A075-E033D63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C621C-9F52-4F69-8CD1-D74F696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797-2F6C-4B26-B154-BDD5C2D4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BCFD-BA82-4C2B-9EDA-510424F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2B1E-02DC-49AD-A806-EBD5FFF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DE4A4-CC64-423C-9681-333D362D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A234-ECB0-462E-A582-C25CBE85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7EFA-26F9-4556-A1BE-1EF800A8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6E83F-D717-4FED-8420-3C30A78E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4708-37C6-4AA2-B54F-58008B47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CB38-1305-4FDE-9A2C-91054321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B96A-FB1B-4FB0-B49F-3B827750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A80D-7D56-45A6-9F9E-CF560200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9E3-6379-413F-BC0F-73C0B66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CF73C-54FB-48C9-988F-DE61627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53BA6-6E6A-4A87-9A89-6822E71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2F3C4-FCF5-43EE-B253-0BB9165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25D8-EBD8-4B2F-BA72-D04D757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358BD-D24A-40F8-A6D8-0B65CB51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18D90-3248-410C-BA4C-F9134B1A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0037-8FD6-45F3-9425-4DC0D0F1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51840-746E-49CA-9D02-24149EC9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DAD48-A1FC-4848-9C77-D57D8A9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3BAF9-644B-45F7-B84C-630BF60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5655-6FEA-4BCD-B8C8-B024031BB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01B-2AF3-474B-B279-954A5DA9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782-C60C-4D79-9713-A5B63153A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7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8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9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1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3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6AA9-BA70-42FC-B059-768583D41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0DF8-E69B-40CD-8056-03B63C96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8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76EE-A1C3-4149-8508-9CE530C33C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3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C168-B78A-4B99-9EFF-45217A73C2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CA71-57F7-402E-BB10-45F2D727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45FC-C2AD-47BF-825C-39F84E06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A21-6AF6-4390-B54A-2F0A0BDA74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28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7D6-409D-4727-A2EF-100468C368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75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1573-CEE7-4F7A-BBDC-6E67EBAB73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0BE5-5142-484E-8713-CECD6BA0C8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2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6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401-EE39-4C9A-9E2A-2482CDC0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E01-AA80-4A93-9DA4-AE4FC417E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55;&#1088;&#1086;&#1094;&#1077;&#1085;&#1090;" TargetMode="External"/><Relationship Id="rId3" Type="http://schemas.openxmlformats.org/officeDocument/2006/relationships/hyperlink" Target="http://ru.wikipedia.org/wiki/&#1055;&#1072;&#1088;&#1094;&#1080;&#1072;&#1083;&#1100;&#1085;&#1086;&#1077;_&#1076;&#1072;&#1074;&#1083;&#1077;&#1085;&#1080;&#1077;" TargetMode="External"/><Relationship Id="rId4" Type="http://schemas.openxmlformats.org/officeDocument/2006/relationships/hyperlink" Target="http://ru.wikipedia.org/wiki/&#1042;&#1086;&#1076;&#1072;" TargetMode="External"/><Relationship Id="rId5" Type="http://schemas.openxmlformats.org/officeDocument/2006/relationships/hyperlink" Target="http://ru.wikipedia.org/wiki/&#1053;&#1072;&#1089;&#1099;&#1097;&#1077;&#1085;&#1085;&#1099;&#1081;_&#1087;&#1072;&#1088;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истота и загрязнение нашей планет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аков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31 г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Г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грязнение окружающей сре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77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481400"/>
                <a:gridCol w="3785400"/>
                <a:gridCol w="2962800"/>
              </a:tblGrid>
              <a:tr h="43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сновные источники загряз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сновные вредные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Промышленность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ранспорт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епловые электроста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ксиды углерода, серы, азота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рганические соединения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Промышленная п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идро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Сточные воды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Утечки нефти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Авто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яжелые металлы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Нефть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Нефте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то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тходы промышленности и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Сельского хозяйства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Избыточное использование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Удобр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Пластмассы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Резина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яжелые мет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типы загряз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НЫЕ ТИПЫ ЗАГРЯЗНЕНИЯ: Физическ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тепловое, шумовое, электромагнитное, световое, радиоактивн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мическ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тяжелые металлы, пестициды, пластмассы и др. химические ве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ологическ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биогенное, микробиологическое, генетическ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формационн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информационный шум, ложная информация, факторы беспокой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600" spc="-1" strike="noStrike">
                <a:solidFill>
                  <a:srgbClr val="b7e7ff"/>
                </a:solidFill>
                <a:latin typeface="Monotype Corsiva"/>
              </a:rPr>
              <a:t>Взаимосвязь загрязнения с окружающей средой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Важный экологический показатель среды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это относительная влажность воздух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Относительная влажность воздуха- это..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шение массовой доли водяного пара в воздухе к максимально возможной при данной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температур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змеряется в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процентах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и определяется по формуле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где:           —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носительная влажность рассматриваемой смеси (воздуха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—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парциальное давление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паров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воды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в смес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—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вновесное давление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насыщенного пара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" descr=" RH = {p_{(H_2O)} \over p^*_{(H_2O)}} \times 100% "/>
          <p:cNvPicPr/>
          <p:nvPr/>
        </p:nvPicPr>
        <p:blipFill>
          <a:blip r:embed="rId6"/>
          <a:stretch/>
        </p:blipFill>
        <p:spPr>
          <a:xfrm>
            <a:off x="4427640" y="2266920"/>
            <a:ext cx="1752480" cy="4064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 RH_{\,_\,} "/>
          <p:cNvPicPr/>
          <p:nvPr/>
        </p:nvPicPr>
        <p:blipFill>
          <a:blip r:embed="rId7"/>
          <a:stretch/>
        </p:blipFill>
        <p:spPr>
          <a:xfrm>
            <a:off x="1258920" y="4076640"/>
            <a:ext cx="314280" cy="11448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 {p_{(H_2O)}} "/>
          <p:cNvPicPr/>
          <p:nvPr/>
        </p:nvPicPr>
        <p:blipFill>
          <a:blip r:embed="rId8"/>
          <a:stretch/>
        </p:blipFill>
        <p:spPr>
          <a:xfrm>
            <a:off x="826920" y="4581360"/>
            <a:ext cx="571680" cy="14292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 {p^*_{(H_2O)}} "/>
          <p:cNvPicPr/>
          <p:nvPr/>
        </p:nvPicPr>
        <p:blipFill>
          <a:blip r:embed="rId9"/>
          <a:stretch/>
        </p:blipFill>
        <p:spPr>
          <a:xfrm>
            <a:off x="826920" y="4941720"/>
            <a:ext cx="486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БСОЛЮТНАЯ ВЛАЖНОСТЬ- ЭТО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личество влаги (в граммах), содержащейся в одном кубическом метре воздуха. Из-за малой величины обычно измеряют в г/м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ства и методы контро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определения влажности воздуха используются приборы, которые называются психрометрами и гигрометрами. Психрометр Августа состоит из двух термометров - сухого и влажного. Влажный термометр показывает температуру ниже, чем сухой, т.к. его резервуар обмотан тканью, смоченной в воде, которая, испаряясь, охлаждает его. Интенсивность испарения зависит от относительной влажности воздуха. По показаниям сухого и влажного термометров находят относительную влажность воздуха по психрометрическим таблицам. В последнее время стали широко применяться интегральные датчики влажности (как правило, с выходом по напряжению), основанные на свойстве некоторых полимеров изменять свои электрические характеристики (такие, как диэлектрическая проницаемость среды) под действием содержащихся в воздухе паров воды. Для поверки приборов для измерения влажностей применяют специальные установки - гигроста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Monotype Corsiva"/>
              </a:rPr>
              <a:t>Охрана окружающей среды</a:t>
            </a:r>
            <a:r>
              <a:rPr b="0" lang="ru-RU" sz="2800" spc="-1" strike="noStrike">
                <a:solidFill>
                  <a:srgbClr val="cc3399"/>
                </a:solidFill>
                <a:latin typeface="Arial Black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икладная эколог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— комплекс мер, предназначенных для ограничения отрицательного влияния человеческой деятельности на природу. В западных странах часто используется также понятие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нвайронментолог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Environmental science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), которое в отечественной литературе выражается термином «наука об охране окружающей сред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53:23Z</dcterms:created>
  <dc:creator>User</dc:creator>
  <dc:description/>
  <dc:language>en-US</dc:language>
  <cp:lastModifiedBy>User</cp:lastModifiedBy>
  <dcterms:modified xsi:type="dcterms:W3CDTF">2009-11-21T14:20:49Z</dcterms:modified>
  <cp:revision>2</cp:revision>
  <dc:subject/>
  <dc:title>Чистота нашей планеты</dc:title>
</cp:coreProperties>
</file>